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D7E-F0D8-4899-BFF0-422553FC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3D3-4BBB-4A43-B3F4-4A7C2592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CCF1-1AD5-4CBF-A0DC-940ACDAA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F56D-919A-4B5A-816F-EF3475EF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E7C-DE5F-41A1-A040-3B286700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33EC-6EA6-4874-9E0C-9AFC6D5E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D736-9480-42F5-80B3-9BC3F079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C671-5A9B-4921-A097-19CF9A32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C263-C647-4BA4-AB68-4DC4538D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256-E3AB-46E1-A5BD-EE9AB1EC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21E-2A8E-45CD-8022-779D0982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2DE4-64AE-484D-ADEA-93DD89E9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6767-EFE6-402D-82AD-6CB9D221A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for Tho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st of food for one fami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week in each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20120" cy="5037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66680" y="5638320"/>
            <a:ext cx="74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: The Aboubakar family of Breidjing Camp Food expenditure for one week: 685 CFA Francs or $1.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543800" cy="498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56383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: The Melander family of Bargteheide Food expenditure for one week: 375.39 Euros or $500.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010640" cy="4633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5409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d States: The Revis family of North Carolina Food expenditure for one week $341.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315200" cy="483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5486040"/>
            <a:ext cx="69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y : The Manzo family of Sicily Food expenditure for one week: 214.36 Euros or $260.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467480" cy="4935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56383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xico : The Casales family of Cuernavac a Food expenditure for one week: 1,862.78 Mexican Pesos or $189.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20120" cy="503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5790600"/>
            <a:ext cx="81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nd : The Sobczynscy family of Konstancin-Jeziorna Food expenditure for one week: 582.48 Zlotys or $151.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848360" cy="5186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8080" y="5714640"/>
            <a:ext cx="75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pt : The Ahmed family of Cairo Food expenditure for one week: 387.85 Egyptian Pounds or $68.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696440" cy="5087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8920" y="5714280"/>
            <a:ext cx="790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uador : The Ayme family of Tingo Food expenditure for one week: $31.5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391520" cy="4884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38080" y="5562000"/>
            <a:ext cx="78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hutan: The Namgay family of Shingkhey Village Food expenditure for one week: 224.93 ngultrum or $5.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23:04:22Z</dcterms:created>
  <dc:creator>Sheila Blake</dc:creator>
  <dc:description/>
  <dc:language>en-US</dc:language>
  <cp:lastModifiedBy>kritter</cp:lastModifiedBy>
  <dcterms:modified xsi:type="dcterms:W3CDTF">2008-02-06T13:50:24Z</dcterms:modified>
  <cp:revision>2</cp:revision>
  <dc:subject/>
  <dc:title>Slide 1</dc:title>
</cp:coreProperties>
</file>